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3DA-E0DB-44A8-9911-196B048D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E4F-3008-4AB1-9511-47E7BF4A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83C-D44D-49EA-9EEE-931E9236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B62-E004-456A-A6E5-9D1797BD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DC1-4F4E-44F6-9B0D-A0A8D15E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414-D62F-4FBA-81BE-09A4C7F1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5C3-E9E8-49E6-B091-1708A1C4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746-B35E-461A-BF32-DB8D8557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501-35C8-43FE-8A40-32262E5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A06-3B27-41C0-B465-9A47C583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3B6-9807-4EA6-8427-A35B898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486-8877-4384-8585-B56B73B4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6072-AECF-44EF-A355-78342D325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78596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46492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39600" y="185904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 顾 与 整 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755800" y="369900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69900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式 与 方 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450800" y="285264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数 与 代 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539640" y="573120"/>
            <a:ext cx="48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列方程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1280" y="12142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幅画的长、宽各是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"/>
          <p:cNvGrpSpPr/>
          <p:nvPr/>
        </p:nvGrpSpPr>
        <p:grpSpPr>
          <a:xfrm>
            <a:off x="285840" y="2057400"/>
            <a:ext cx="8683560" cy="3133800"/>
            <a:chOff x="285840" y="2057400"/>
            <a:chExt cx="8683560" cy="3133800"/>
          </a:xfrm>
        </p:grpSpPr>
        <p:pic>
          <p:nvPicPr>
            <p:cNvPr id="136" name="图片 3" descr="QQ截图20150126234542.png"/>
            <p:cNvPicPr/>
            <p:nvPr/>
          </p:nvPicPr>
          <p:blipFill>
            <a:blip r:embed="rId1"/>
            <a:stretch/>
          </p:blipFill>
          <p:spPr>
            <a:xfrm>
              <a:off x="2448360" y="2980800"/>
              <a:ext cx="4238280" cy="221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云形标注 4"/>
            <p:cNvSpPr/>
            <p:nvPr/>
          </p:nvSpPr>
          <p:spPr>
            <a:xfrm>
              <a:off x="285840" y="2057400"/>
              <a:ext cx="4118040" cy="1155600"/>
            </a:xfrm>
            <a:prstGeom prst="cloudCallout">
              <a:avLst>
                <a:gd name="adj1" fmla="val 37148"/>
                <a:gd name="adj2" fmla="val 93930"/>
              </a:avLst>
            </a:prstGeom>
            <a:solidFill>
              <a:srgbClr val="6b6bcf"/>
            </a:solidFill>
            <a:ln w="1260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长是宽的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倍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云形标注 5"/>
            <p:cNvSpPr/>
            <p:nvPr/>
          </p:nvSpPr>
          <p:spPr>
            <a:xfrm>
              <a:off x="4183200" y="2101680"/>
              <a:ext cx="4786200" cy="1285920"/>
            </a:xfrm>
            <a:prstGeom prst="cloudCallout">
              <a:avLst>
                <a:gd name="adj1" fmla="val -30111"/>
                <a:gd name="adj2" fmla="val 62962"/>
              </a:avLst>
            </a:prstGeom>
            <a:solidFill>
              <a:srgbClr val="6b6bcf"/>
            </a:solidFill>
            <a:ln w="1260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画框共用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2cm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长的木条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3"/>
          <p:cNvSpPr/>
          <p:nvPr/>
        </p:nvSpPr>
        <p:spPr>
          <a:xfrm>
            <a:off x="285840" y="5500800"/>
            <a:ext cx="63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÷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285840" y="10746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：设这幅画的宽为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厘米，长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286000" y="1932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162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714760" y="25034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928960" y="32180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2786040" y="40035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×27=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85840" y="50626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这幅画的宽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厘米，长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1913040" y="23353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什么叫方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531520" y="34574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方程的条件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>
            <a:off x="8459640" y="5950080"/>
            <a:ext cx="505080" cy="504720"/>
          </a:xfrm>
          <a:custGeom>
            <a:avLst/>
            <a:gdLst>
              <a:gd name="textAreaLeft" fmla="*/ 208080 w 505080"/>
              <a:gd name="textAreaRight" fmla="*/ 297000 w 50508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6280920" y="34783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未知数、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5871600" y="2335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含有未知数的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971640" y="1150920"/>
            <a:ext cx="19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3"/>
          <p:cNvSpPr/>
          <p:nvPr/>
        </p:nvSpPr>
        <p:spPr>
          <a:xfrm>
            <a:off x="452520" y="690480"/>
            <a:ext cx="55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括号里填上合适的式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264960" y="1647720"/>
            <a:ext cx="870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刘强家上月收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剩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支出（             ）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盘彩带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做一个中国结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。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中国结用（     ）米，还剩（           ）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瓶盐水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克，盐的质量占盐水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，这瓶盐水含盐（          ）克，含水（          ）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台插秧机每小时插秧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米，上午工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，下午工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。上午和下午一共插秧（     ）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25400" y="2117880"/>
            <a:ext cx="145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2990880" y="31370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5937120" y="3030480"/>
            <a:ext cx="13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3249720" y="404172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1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/>
          <p:cNvSpPr/>
          <p:nvPr/>
        </p:nvSpPr>
        <p:spPr>
          <a:xfrm>
            <a:off x="6659640" y="406872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8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1141560" y="5548320"/>
            <a:ext cx="6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3" descr=""/>
          <p:cNvPicPr/>
          <p:nvPr/>
        </p:nvPicPr>
        <p:blipFill>
          <a:blip r:embed="rId1"/>
          <a:stretch/>
        </p:blipFill>
        <p:spPr>
          <a:xfrm>
            <a:off x="584280" y="2938320"/>
            <a:ext cx="8001000" cy="209880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3"/>
          <p:cNvSpPr/>
          <p:nvPr/>
        </p:nvSpPr>
        <p:spPr>
          <a:xfrm>
            <a:off x="452520" y="474840"/>
            <a:ext cx="66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列方程并求出方程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255600" y="1368360"/>
            <a:ext cx="842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李老师买下面的乒乓球拍，给售货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找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一副拍乒乓球拍的价钱是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452520" y="5037120"/>
            <a:ext cx="71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：设一副乒乓球拍的价钱是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3403440" y="5783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3"/>
          <p:cNvSpPr/>
          <p:nvPr/>
        </p:nvSpPr>
        <p:spPr>
          <a:xfrm>
            <a:off x="3262320" y="490680"/>
            <a:ext cx="19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1598760" y="1177920"/>
            <a:ext cx="69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一副乒乓球拍的价钱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25560" y="1863720"/>
            <a:ext cx="85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两人骑摩托车同时出发，几小时后相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6"/>
          <p:cNvGrpSpPr/>
          <p:nvPr/>
        </p:nvGrpSpPr>
        <p:grpSpPr>
          <a:xfrm>
            <a:off x="655560" y="2755800"/>
            <a:ext cx="7729200" cy="3466080"/>
            <a:chOff x="655560" y="2755800"/>
            <a:chExt cx="7729200" cy="3466080"/>
          </a:xfrm>
        </p:grpSpPr>
        <p:pic>
          <p:nvPicPr>
            <p:cNvPr id="70" name="图片 7" descr=""/>
            <p:cNvPicPr/>
            <p:nvPr/>
          </p:nvPicPr>
          <p:blipFill>
            <a:blip r:embed="rId1"/>
            <a:stretch/>
          </p:blipFill>
          <p:spPr>
            <a:xfrm>
              <a:off x="5428080" y="2774160"/>
              <a:ext cx="236916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8" descr=""/>
            <p:cNvPicPr/>
            <p:nvPr/>
          </p:nvPicPr>
          <p:blipFill>
            <a:blip r:embed="rId2"/>
            <a:stretch/>
          </p:blipFill>
          <p:spPr>
            <a:xfrm>
              <a:off x="655560" y="2755800"/>
              <a:ext cx="2538360" cy="193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组合 9"/>
            <p:cNvGrpSpPr/>
            <p:nvPr/>
          </p:nvGrpSpPr>
          <p:grpSpPr>
            <a:xfrm>
              <a:off x="2775240" y="3449160"/>
              <a:ext cx="3857760" cy="1853640"/>
              <a:chOff x="2775240" y="3449160"/>
              <a:chExt cx="3857760" cy="1853640"/>
            </a:xfrm>
          </p:grpSpPr>
          <p:sp>
            <p:nvSpPr>
              <p:cNvPr id="73" name="任意多边形 19"/>
              <p:cNvSpPr/>
              <p:nvPr/>
            </p:nvSpPr>
            <p:spPr>
              <a:xfrm>
                <a:off x="2865600" y="3539520"/>
                <a:ext cx="3677040" cy="1672560"/>
              </a:xfrm>
              <a:custGeom>
                <a:avLst/>
                <a:gdLst/>
                <a:ahLst/>
                <a:rect l="l" t="t" r="r" b="b"/>
                <a:pathLst>
                  <a:path w="3678381" h="1672936">
                    <a:moveTo>
                      <a:pt x="0" y="0"/>
                    </a:moveTo>
                    <a:cubicBezTo>
                      <a:pt x="111702" y="126422"/>
                      <a:pt x="223404" y="252845"/>
                      <a:pt x="353290" y="332509"/>
                    </a:cubicBezTo>
                    <a:cubicBezTo>
                      <a:pt x="483176" y="412173"/>
                      <a:pt x="623454" y="372341"/>
                      <a:pt x="779318" y="477982"/>
                    </a:cubicBezTo>
                    <a:cubicBezTo>
                      <a:pt x="935182" y="583623"/>
                      <a:pt x="1032163" y="834736"/>
                      <a:pt x="1288472" y="966354"/>
                    </a:cubicBezTo>
                    <a:cubicBezTo>
                      <a:pt x="1544781" y="1097972"/>
                      <a:pt x="2015836" y="1165514"/>
                      <a:pt x="2317172" y="1267691"/>
                    </a:cubicBezTo>
                    <a:cubicBezTo>
                      <a:pt x="2618508" y="1369868"/>
                      <a:pt x="2869622" y="1511877"/>
                      <a:pt x="3096490" y="1579418"/>
                    </a:cubicBezTo>
                    <a:cubicBezTo>
                      <a:pt x="3323358" y="1646959"/>
                      <a:pt x="3678381" y="1672936"/>
                      <a:pt x="3678381" y="1672936"/>
                    </a:cubicBezTo>
                    <a:lnTo>
                      <a:pt x="3678381" y="1672936"/>
                    </a:lnTo>
                    <a:lnTo>
                      <a:pt x="3678381" y="1672936"/>
                    </a:lnTo>
                  </a:path>
                </a:pathLst>
              </a:custGeom>
              <a:noFill/>
              <a:ln w="19080">
                <a:solidFill>
                  <a:srgbClr val="72bf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椭圆 20"/>
              <p:cNvSpPr/>
              <p:nvPr/>
            </p:nvSpPr>
            <p:spPr>
              <a:xfrm>
                <a:off x="6453720" y="5123520"/>
                <a:ext cx="179280" cy="1792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椭圆 21"/>
              <p:cNvSpPr/>
              <p:nvPr/>
            </p:nvSpPr>
            <p:spPr>
              <a:xfrm>
                <a:off x="2775240" y="3449160"/>
                <a:ext cx="179280" cy="1792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文本框 10"/>
            <p:cNvSpPr/>
            <p:nvPr/>
          </p:nvSpPr>
          <p:spPr>
            <a:xfrm>
              <a:off x="3825360" y="3826440"/>
              <a:ext cx="13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11"/>
            <p:cNvSpPr/>
            <p:nvPr/>
          </p:nvSpPr>
          <p:spPr>
            <a:xfrm>
              <a:off x="6719760" y="495108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天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12"/>
            <p:cNvSpPr/>
            <p:nvPr/>
          </p:nvSpPr>
          <p:spPr>
            <a:xfrm>
              <a:off x="2499120" y="292572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北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13"/>
            <p:cNvSpPr/>
            <p:nvPr/>
          </p:nvSpPr>
          <p:spPr>
            <a:xfrm>
              <a:off x="2234880" y="452124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王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14"/>
            <p:cNvSpPr/>
            <p:nvPr/>
          </p:nvSpPr>
          <p:spPr>
            <a:xfrm>
              <a:off x="6246360" y="537120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李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15"/>
            <p:cNvSpPr/>
            <p:nvPr/>
          </p:nvSpPr>
          <p:spPr>
            <a:xfrm>
              <a:off x="1185120" y="4917960"/>
              <a:ext cx="263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每小时行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16"/>
            <p:cNvSpPr/>
            <p:nvPr/>
          </p:nvSpPr>
          <p:spPr>
            <a:xfrm>
              <a:off x="5745960" y="5701320"/>
              <a:ext cx="263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每小时行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直接箭头连接符 17"/>
            <p:cNvCxnSpPr/>
            <p:nvPr/>
          </p:nvCxnSpPr>
          <p:spPr>
            <a:xfrm>
              <a:off x="3053880" y="4783320"/>
              <a:ext cx="518040" cy="1353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84" name="直接箭头连接符 18"/>
            <p:cNvCxnSpPr>
              <a:stCxn id="80" idx="1"/>
            </p:cNvCxnSpPr>
            <p:nvPr/>
          </p:nvCxnSpPr>
          <p:spPr>
            <a:xfrm flipH="1" flipV="1">
              <a:off x="5742720" y="5389560"/>
              <a:ext cx="416520" cy="2433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3"/>
          <p:cNvSpPr/>
          <p:nvPr/>
        </p:nvSpPr>
        <p:spPr>
          <a:xfrm>
            <a:off x="388800" y="54144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：设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后相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1887480" y="1125360"/>
            <a:ext cx="394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"/>
          <p:cNvSpPr/>
          <p:nvPr/>
        </p:nvSpPr>
        <p:spPr>
          <a:xfrm>
            <a:off x="3859200" y="1855800"/>
            <a:ext cx="17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2954160" y="2443320"/>
            <a:ext cx="44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后相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29"/>
          <p:cNvGrpSpPr/>
          <p:nvPr/>
        </p:nvGrpSpPr>
        <p:grpSpPr>
          <a:xfrm>
            <a:off x="122400" y="2916360"/>
            <a:ext cx="8513640" cy="938880"/>
            <a:chOff x="122400" y="2916360"/>
            <a:chExt cx="8513640" cy="938880"/>
          </a:xfrm>
        </p:grpSpPr>
        <p:sp>
          <p:nvSpPr>
            <p:cNvPr id="90" name="文本框 3"/>
            <p:cNvSpPr/>
            <p:nvPr/>
          </p:nvSpPr>
          <p:spPr>
            <a:xfrm>
              <a:off x="122400" y="3145320"/>
              <a:ext cx="851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张叔叔摘了一小车西瓜，卖了     后，还剩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。张叔叔一共摘了多少个西瓜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28"/>
            <p:cNvGrpSpPr/>
            <p:nvPr/>
          </p:nvGrpSpPr>
          <p:grpSpPr>
            <a:xfrm>
              <a:off x="6584400" y="2916360"/>
              <a:ext cx="398160" cy="938880"/>
              <a:chOff x="6584400" y="2916360"/>
              <a:chExt cx="398160" cy="938880"/>
            </a:xfrm>
          </p:grpSpPr>
          <p:sp>
            <p:nvSpPr>
              <p:cNvPr id="92" name="文本框 3"/>
              <p:cNvSpPr/>
              <p:nvPr/>
            </p:nvSpPr>
            <p:spPr>
              <a:xfrm>
                <a:off x="6584400" y="2916360"/>
                <a:ext cx="397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文本框 3"/>
              <p:cNvSpPr/>
              <p:nvPr/>
            </p:nvSpPr>
            <p:spPr>
              <a:xfrm>
                <a:off x="6584400" y="3273840"/>
                <a:ext cx="397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27"/>
              <p:cNvSpPr/>
              <p:nvPr/>
            </p:nvSpPr>
            <p:spPr>
              <a:xfrm>
                <a:off x="6585120" y="3389400"/>
                <a:ext cx="397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文本框 3"/>
          <p:cNvSpPr/>
          <p:nvPr/>
        </p:nvSpPr>
        <p:spPr>
          <a:xfrm>
            <a:off x="388800" y="4268880"/>
            <a:ext cx="64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：设张叔叔一共摘了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西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5"/>
          <p:cNvGrpSpPr/>
          <p:nvPr/>
        </p:nvGrpSpPr>
        <p:grpSpPr>
          <a:xfrm>
            <a:off x="1832040" y="4786200"/>
            <a:ext cx="3941640" cy="938520"/>
            <a:chOff x="1832040" y="4786200"/>
            <a:chExt cx="3941640" cy="938520"/>
          </a:xfrm>
        </p:grpSpPr>
        <p:sp>
          <p:nvSpPr>
            <p:cNvPr id="97" name="文本框 3"/>
            <p:cNvSpPr/>
            <p:nvPr/>
          </p:nvSpPr>
          <p:spPr>
            <a:xfrm>
              <a:off x="1832040" y="4948200"/>
              <a:ext cx="394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－     ）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×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3"/>
            <p:cNvSpPr/>
            <p:nvPr/>
          </p:nvSpPr>
          <p:spPr>
            <a:xfrm>
              <a:off x="3068280" y="4786200"/>
              <a:ext cx="39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3"/>
            <p:cNvSpPr/>
            <p:nvPr/>
          </p:nvSpPr>
          <p:spPr>
            <a:xfrm>
              <a:off x="3068280" y="5143320"/>
              <a:ext cx="39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34"/>
            <p:cNvSpPr/>
            <p:nvPr/>
          </p:nvSpPr>
          <p:spPr>
            <a:xfrm>
              <a:off x="3068640" y="5259240"/>
              <a:ext cx="3981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3"/>
          <p:cNvSpPr/>
          <p:nvPr/>
        </p:nvSpPr>
        <p:spPr>
          <a:xfrm>
            <a:off x="3859200" y="5483160"/>
            <a:ext cx="17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2901960" y="5948280"/>
            <a:ext cx="58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张叔叔一共摘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西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3"/>
          <p:cNvSpPr/>
          <p:nvPr/>
        </p:nvSpPr>
        <p:spPr>
          <a:xfrm>
            <a:off x="452520" y="547560"/>
            <a:ext cx="77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数量关系和表示它的式子，用线连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725400" y="1982880"/>
            <a:ext cx="19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800280" y="3063960"/>
            <a:ext cx="16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平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871560" y="407196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725400" y="492912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二分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604800" y="5732640"/>
            <a:ext cx="37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倍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3"/>
          <p:cNvSpPr/>
          <p:nvPr/>
        </p:nvSpPr>
        <p:spPr>
          <a:xfrm>
            <a:off x="5575320" y="20048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5627520" y="3870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"/>
          <p:cNvSpPr/>
          <p:nvPr/>
        </p:nvSpPr>
        <p:spPr>
          <a:xfrm>
            <a:off x="5627520" y="4657680"/>
            <a:ext cx="13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"/>
          <p:cNvSpPr/>
          <p:nvPr/>
        </p:nvSpPr>
        <p:spPr>
          <a:xfrm>
            <a:off x="5907240" y="5603760"/>
            <a:ext cx="6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对象 12"/>
          <p:cNvGraphicFramePr/>
          <p:nvPr/>
        </p:nvGraphicFramePr>
        <p:xfrm>
          <a:off x="5627520" y="2563920"/>
          <a:ext cx="48420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对象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7520" y="2563920"/>
                    <a:ext cx="4842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直接连接符 14"/>
          <p:cNvSpPr/>
          <p:nvPr/>
        </p:nvSpPr>
        <p:spPr>
          <a:xfrm>
            <a:off x="2627280" y="2346480"/>
            <a:ext cx="3000240" cy="26748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6"/>
          <p:cNvSpPr/>
          <p:nvPr/>
        </p:nvSpPr>
        <p:spPr>
          <a:xfrm>
            <a:off x="2484360" y="3429000"/>
            <a:ext cx="3422880" cy="25383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8"/>
          <p:cNvSpPr/>
          <p:nvPr/>
        </p:nvSpPr>
        <p:spPr>
          <a:xfrm flipV="1">
            <a:off x="2413080" y="2368440"/>
            <a:ext cx="3162240" cy="20671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0"/>
          <p:cNvSpPr/>
          <p:nvPr/>
        </p:nvSpPr>
        <p:spPr>
          <a:xfrm flipV="1">
            <a:off x="3252960" y="3402000"/>
            <a:ext cx="2182680" cy="18907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2"/>
          <p:cNvSpPr/>
          <p:nvPr/>
        </p:nvSpPr>
        <p:spPr>
          <a:xfrm flipV="1">
            <a:off x="4208400" y="4216320"/>
            <a:ext cx="1263600" cy="17496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3"/>
          <p:cNvSpPr/>
          <p:nvPr/>
        </p:nvSpPr>
        <p:spPr>
          <a:xfrm>
            <a:off x="509760" y="69516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595440" y="141120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"/>
          <p:cNvSpPr/>
          <p:nvPr/>
        </p:nvSpPr>
        <p:spPr>
          <a:xfrm>
            <a:off x="5003640" y="1411200"/>
            <a:ext cx="391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3×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595440" y="3859200"/>
            <a:ext cx="39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"/>
          <p:cNvSpPr/>
          <p:nvPr/>
        </p:nvSpPr>
        <p:spPr>
          <a:xfrm>
            <a:off x="1214280" y="212868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3"/>
          <p:cNvSpPr/>
          <p:nvPr/>
        </p:nvSpPr>
        <p:spPr>
          <a:xfrm>
            <a:off x="5435640" y="216072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.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4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595440" y="4579920"/>
            <a:ext cx="390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8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"/>
          <p:cNvSpPr/>
          <p:nvPr/>
        </p:nvSpPr>
        <p:spPr>
          <a:xfrm>
            <a:off x="644400" y="638280"/>
            <a:ext cx="77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台电脑的售价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比一台彩电售价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倍还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这台彩电的售价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971640" y="2416320"/>
            <a:ext cx="64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：设这台彩电的售价是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"/>
          <p:cNvSpPr/>
          <p:nvPr/>
        </p:nvSpPr>
        <p:spPr>
          <a:xfrm>
            <a:off x="1863720" y="3137040"/>
            <a:ext cx="44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"/>
          <p:cNvSpPr/>
          <p:nvPr/>
        </p:nvSpPr>
        <p:spPr>
          <a:xfrm>
            <a:off x="3117960" y="372096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"/>
          <p:cNvSpPr/>
          <p:nvPr/>
        </p:nvSpPr>
        <p:spPr>
          <a:xfrm>
            <a:off x="3727440" y="431784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"/>
          <p:cNvSpPr/>
          <p:nvPr/>
        </p:nvSpPr>
        <p:spPr>
          <a:xfrm>
            <a:off x="1344600" y="495000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这台彩电的售价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6:4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